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FD2-4ED8-4A5C-A88E-6409AA0A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20F-C998-4921-AB2F-F922055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35A-13A6-4848-99EE-4A637F2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589-1A9C-4C16-B710-9FB217F5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955-8E45-472D-8C48-1A15852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A73-8787-4400-9E18-477BF48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032-6837-496F-8B84-A83055F1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DC7-6372-48B8-94B8-36D5D7FF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209-1826-44F9-A158-0BF500D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C03-0908-4A1A-9403-8088513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795-0C4E-4C24-B987-BE1144D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831-AFBF-457D-97A6-5ED10B65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5E44-A36B-4B8E-B94C-DFA8BB21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El futuro y 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gram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Los verbo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Las terminaciones: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er=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emo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Pr</a:t>
            </a: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mprar (yo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bebe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escuchar (Emma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aplaudir (nosotr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nducir (vosotr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piar (los alumn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isitar (Natalia y yo)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escar (Rodolfo y Manuel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Los verbo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aber: c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der: pod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: sal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decir: di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ner: pond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tener: ten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er: h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querer: quer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aler: val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: ha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ber: s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enir:ven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Más pr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 (ellos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 (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mprar (Tina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decir (Pablo y Juan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la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bailar (Ava y 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tener (Uds.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querer (Mar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ín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ber (Ud.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isitar (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mo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compraría comprarí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i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compraría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comprarí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n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 compraría  comprarí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Pr</a:t>
            </a: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áctica d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aber (Carm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 (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eni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aler (vosot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 (Tom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ner (Pepe y Pam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er (Ricar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der (U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54:24Z</dcterms:created>
  <dc:creator>jbarber</dc:creator>
  <dc:description/>
  <dc:language>en-US</dc:language>
  <cp:lastModifiedBy>jbarber</cp:lastModifiedBy>
  <dcterms:modified xsi:type="dcterms:W3CDTF">2011-04-28T12:50:36Z</dcterms:modified>
  <cp:revision>14</cp:revision>
  <dc:subject/>
  <dc:title>El futuro</dc:title>
</cp:coreProperties>
</file>